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CB2F-2800-42D1-BADC-614FF709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F1D-4799-4A86-9A58-6B62890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03D-8263-47C6-8B44-6883FF36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D38-647F-48EF-A0B7-74847427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9A4C-5128-4491-B323-EEB46011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90EA-5505-48B3-9BD3-A7517659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C51B-FBFA-4795-8EB1-A6BFFA37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C769-AB61-412D-AFE7-6C7D2EA1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602-8856-4106-BB91-8D6BD0C9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B8AF-36A2-4450-BF78-07A911A6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E75C-CA74-4EAD-BB2A-AC07C752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2EB9-17D9-4ADF-833B-A58E239E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FD63-9D4D-4718-AEDF-00EB493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2773-BBF7-44FA-BA1D-0F452107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4280-E9AF-4A4D-9CA4-A341398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B50-643C-4F4B-B5D7-301B6D86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44F8-B23D-4FF5-A511-8F41960D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6986-07FD-4229-9C28-C09AA61C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8C1EC-2014-4C30-AAFE-70DDF5F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EA7D-E5AA-4097-BB3A-E835D8B4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A23C-E695-4B3B-867F-0B85C8D4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ABEB-5A43-4E71-B477-4878CA6D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D0A-6A4C-498F-93AD-455D5560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AA32-7698-49BE-8A00-A6AFFB2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2D34-8662-4E52-807A-A85BFA4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F1C1-6315-4F3C-AA54-BCC7A1B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8163-B530-41BA-8101-5984DA5C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8CC6-6795-4EC3-B57A-BD0555A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FD1CF-49F7-4DAA-8850-8E7F32DF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31CA9-D7A4-495D-BAC7-47E738C6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F5CE-73E4-4586-A10D-B80399F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94F0-32F8-4AD8-BBA2-B7958BB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BCF5E-A02A-4C39-9FD4-89807F04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1E6-FD07-4FF3-92EA-2A8D05EA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25C42-91C5-4613-8C03-58C7F9C8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A5E9-16EC-4AC1-9EF0-DA198BE0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DE87-8C2C-40A4-840A-EF3BD78A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E34A-5CC4-4114-B224-800B724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8362-9517-4768-8C27-0233E94C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BDE9F-A3D1-4EEF-A964-EA4847A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5E7B8-2AFA-468A-AFA5-ABDE208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CF7C-874B-4F95-AAC7-68F4531F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EA67A-5B0E-4465-8893-5D473449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C416D-9C3E-47D7-8620-AF5693D8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ACF-ED5A-447C-8104-61A4F0AC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E3AA-3C18-484F-AE62-DECA60C7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78867-98DA-49E3-A56D-AF33BD0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5BC89-2024-467B-BAE6-15A653B6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F3491-005F-434C-B94F-B97315B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42D0-76D7-474B-987D-5A0EAECC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FEE7A-C941-4D56-99D5-27A2CAF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BE9A0-68F7-47DB-97B5-274F43A0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3159-3E1E-4B1A-8BE5-C2B6539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0010-64D3-4E40-BBDF-17762A29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688C9-FDBE-4E62-AE79-47BC6420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675-DE98-4392-A2ED-6A1121B1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84816-3C61-4FC3-9BA4-7A93DD8A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DC36-A9D3-4576-9097-B8E057F1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27EC3-DAB5-47F0-9664-84D6533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16B0-F20E-49AD-8097-E66B0BF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EB6D2-FD30-49A4-AF5A-6219225F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2E806-4DBF-408C-9776-3E3A8EAD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861C-4350-4D8A-BACE-26FBAFE5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7E13E-D274-4A34-90BB-F360F13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2B8E5-1A27-4864-9224-78F46F31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4E49-4ADF-43A3-9018-C54185D9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978-278D-4274-8EF8-FF6D2C5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2198F-735E-4930-B145-A4CAC24E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8B30-27D9-41EB-A4C7-DDE3C683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1EC3B-5C4B-4ECE-965E-941BD264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D0A7-178F-47CB-84AA-D1B493C0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7BF1-1372-40A4-BA18-0B68A29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5EEC1-6E64-4948-895A-56FEE2DC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BA35-ADB8-4242-9C8B-6B0F653C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E453F-9F98-44A0-8DAF-5927F79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90BBB-2DD8-45F3-85A7-BD70764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E59F-07D0-4E3A-8DE1-7B7334E6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528-F3E7-4365-88F7-85E386A5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EAD3E-E1A6-471A-A97D-ECB2347E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A8F80-7129-4172-8588-DEBD811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BA74-4AE7-46E3-80F9-0C5C3C7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2232E-CD0D-4907-BCC8-2F8E8502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023C8-233B-4C2E-9311-9FD9FA57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421-A0EE-413B-9F23-0ABECDC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287A-BB9B-40E7-A5B0-9655ECC46CA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E982-85BB-4BC6-8E7C-CA11FE9B116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8C35-11B7-4D6B-91DE-22A3A4F0E678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702E-DF8F-4E12-9C3C-2DD5B49E9909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7555-BBED-4077-AB4D-90EC9DF1CB6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DCE-9DB8-40A2-9B87-F75EB3FEA569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605-1D3F-48AA-B553-0D5567275BAF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2A17-E087-4197-A83E-5CB44D805F0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5EE8-94C1-41E6-8A38-1FE3BD37EC36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4DAB-F4EA-4C58-969B-863F1F3D130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74FC-1E83-4B42-854B-79E25B02C24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F50F-34E2-4721-B283-1DAE180E50C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F9F7-C3EE-4120-B8D6-A855F7C2392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414D-ED2C-4C0D-9415-1793C6D999A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Regenerace" TargetMode="External"/><Relationship Id="rId2" Type="http://schemas.openxmlformats.org/officeDocument/2006/relationships/hyperlink" Target="http://cs.wikipedia.org/wiki/Regenerace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Reparace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Hypertrofi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440" y="333360"/>
            <a:ext cx="8077320" cy="4464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 Black"/>
              </a:rPr>
              <a:t>Progresivní změny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Y_32_INOVACE_KLN.2.11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Datum tvorby:     9.1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.2014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1 zahrnuje pojmy: progrese, regenerace, reparace, kompenzace, hypertrofie, hyperplazie, metaplazie a transplantace. Prezentace je zakončena souborem otázek z zopakování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81914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TRANSPLANT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lvl="1" marL="715320" indent="-2671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= přenos tkání nebo orgánů / kr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AUTOTRANSPLANTACE = přenos v rámci jedin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HOMOLOGNÍ  (HOMO)TRANSPLANTACE = přenos z jedince na jiného jedince v rámci druhu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HETEROLOGNÍ (XENO)TRANSPLANTACE = z druhu na dru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wikiskripta.eu/index.php/Transplanta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cs.wikipedia.org/wiki/Transplanta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Imunitní systém reaguje na transplantát jako na cizí antigen – může transplantát zničit = REJEKCE transplantátu. Proto je při transplantacích nutné imunitní systém příjemce potlačovat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rogre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Regener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Repar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ojení per primam, per secunda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izv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yperplazie a hypertrofi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Metaplazi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Dysplazi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Transplantace, autotransplantace, xenotransplant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ROGRESIVNÍ ZMĚNY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gresivní změ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Opakování –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co jsou REGRESIVNÍ ZMĚN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 (nápověda: regrese = pohyb zpě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oškození až zničení tkání a orgánů (nekrózy, atrofie, dystrofie, poruchy metabolismu, lithiáz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gresivní změ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Co jsou PROGRESIVNÍ ZMĚN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 (progrese je pohyb vpře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tvorba nových tkání, jejich obnovování, hojení, zvětšování, kompenz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REGENER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REPAR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HYPERTROFIE, HYPERPLAZ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METAPLAZIE a DYSPLAZ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TRANSPLANT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REGEN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obnova zaniklé tkáně za novou – rovnocenn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Regenera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cs.wikipedia.org/wiki/Regenera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U člověka je regenerační schopnost omezená lze rozlišit tři typy tkání dle schopnosti regenerace 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eustále obnovované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(regenerují průběžně = kostní dřeň, epitely…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stabilní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  (regenerují při poškození = játra, kanálky ledvin…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rvalé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(neregenerují = nervové buňky, myokard, kosterní svaly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REPA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náhrada zaniklé nebo zničené tkáně tkání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neplnohodnotnou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vazivovou jizv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hojení nekróz, ran, zlomenin, vhojování cizích těles, organizace trombu a krevního výron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ojení </a:t>
            </a:r>
            <a:r>
              <a:rPr b="1" i="1" lang="cs-CZ" sz="3200" spc="-1" strike="noStrike">
                <a:solidFill>
                  <a:srgbClr val="000000"/>
                </a:solidFill>
                <a:latin typeface="Corbel"/>
              </a:rPr>
              <a:t>per primam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na první poku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ojení </a:t>
            </a:r>
            <a:r>
              <a:rPr b="1" i="1" lang="cs-CZ" sz="3200" spc="-1" strike="noStrike">
                <a:solidFill>
                  <a:srgbClr val="000000"/>
                </a:solidFill>
                <a:latin typeface="Corbel"/>
              </a:rPr>
              <a:t>per secundam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s komplikací – granulační tkáň &gt; jizv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Repar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HYPERTROFIE A HYPERPLAZI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zvětšení orgánů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svalů, srdce, prostaty, mléčné žlázy, štítné žlázy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Zvětšením buněk = HYPERTROF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Zmnožením buněk = HYPERPLAZ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ůvody: kompenzace, z nervových příčin, hormony, zátěž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Hypertrofi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wikiskripta.eu/index.php/Hyperpl%C3%A1zi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METAPLAZIE A DYSPLAZI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Metaplazie = přemněna jedné vyzrálé tkáně v jinou vyzrálou tkáň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www.wikiskripta.eu/index.php/Metapl%C3%A1zi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Dysplazie = nepravidelnost ve tvaru, velikosti i prostorovém uspořádání buněk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buňky mění tvar – považ. za prekanceróz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en.wikipedia.org/wiki/Dysplasi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cs.wikipedia.org/wiki/Dysplazie_ky%C4%8Deln%C3%ADho_kloub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5T16:48:00Z</dcterms:created>
  <dc:creator>Veronika</dc:creator>
  <dc:description/>
  <dc:language>en-US</dc:language>
  <cp:lastModifiedBy>Chalupna</cp:lastModifiedBy>
  <dcterms:modified xsi:type="dcterms:W3CDTF">2014-03-31T21:04:55Z</dcterms:modified>
  <cp:revision>11</cp:revision>
  <dc:subject/>
  <dc:title>Snímek 1</dc:title>
</cp:coreProperties>
</file>